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1F3-81A9-4CE6-A9CD-11FBCDA6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7A1-5370-485B-B243-927119BA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168-5B8C-41DD-BF73-F197CECA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946-53A5-4A99-A509-A43FD47A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C7313-24D4-476E-8CDB-4FCEE671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E0D05-39D8-4CAE-9AD3-7A29C0F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CDF0E-B072-4D81-B5DE-F9525A4D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BC4AA-5A8B-465E-9FBB-7E3C8BC3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64559-40D5-424F-B179-5DFAF258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E1E20-6C1B-4606-A988-682D8F29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DE8CB-4AB7-4A83-89C6-7F84653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056-3898-463C-A13D-0B7AF912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DB439-678A-4C91-9B78-8C0D34D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4518A-DDE8-494A-AFD7-2B500770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3A7F1-2F5E-4BE4-AA93-83560531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73DF3-91FB-453C-A859-D2F7AC6C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ED107-D903-4E73-AF11-CA126857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604-351F-4B23-A49D-2CB5F051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AF0-F3B2-4D8F-84AB-780D87DC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EF9-8234-4C91-9B74-11AE3E27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E55-676B-408A-B83B-1386CB6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FA4-B60A-4AA5-A21E-0FAFBEE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CB9-17A6-4E94-A758-0E9E7CE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5EB-4E7E-4B18-858F-A7657455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EA5-6C4D-4A3F-B840-4C00D2896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F425-DFCF-4466-8020-553651D79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brew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s 3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7-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3-Stay Faith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 Christ’s fa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holier than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ch out for your brethren’s fa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become partakers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harden your hearts as those who followed Moses d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4-Rest For The Faith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promise of 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e do not take heed of the word, we will not see this 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designated “day of judgmen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dili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d of God is fully capable of purging sin as well as levying punis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look to our “High Priest” for gui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pter 5-Qualifications For Priesthoo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ed by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compassion on the stra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iest forever of the order of Melchized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ered many pray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d obedience through suff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pter 6-Spiritual Immaturity, The Peril Of Not Progressing, The Purpose In Chri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f you ought to be teachers but are still ba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not ready for the solid food of th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necessary to lay a foundation of repen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ssible for those who are still in sin to taste gl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the avenue of forgive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6-(Cont’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have a higher purpose in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diligence to the c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ecome sluggish in your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trust God’s promi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hope is an anchor for our so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the ultimate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our High Pri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fore, do not disappoint Him in turning away from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lose ho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avenue of repentance and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our only real hope of sal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1:28:05Z</dcterms:created>
  <dc:creator>Tab L. Vines</dc:creator>
  <dc:description/>
  <dc:language>en-US</dc:language>
  <cp:lastModifiedBy>Frank D Vines</cp:lastModifiedBy>
  <dcterms:modified xsi:type="dcterms:W3CDTF">2007-05-06T03:33:05Z</dcterms:modified>
  <cp:revision>7</cp:revision>
  <dc:subject/>
  <dc:title>Hebrews </dc:title>
</cp:coreProperties>
</file>